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6DD-848C-44F1-AEF6-FE3C24D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499-4A64-4567-8362-27B5B5C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CA1-4120-4D50-AE5A-79C6EEA2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334-7A22-474F-92EF-322D21FB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E84-1E6F-4524-9D87-4997757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50F-5AD2-4B1F-AA49-D3E9B38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C58-E890-4586-AAA8-3820E8E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18A-E318-4680-BA37-DB0DCAB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431-0759-4083-A5A4-E11CEC0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9E4-74BE-47D5-8D72-2067AAE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B30-0F3E-4860-A92D-F6F3640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387-9677-4A3B-A658-7227464F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0B49F-4015-432F-9C26-ADD316DF7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682C1-34AF-4AA9-B3DF-E2EB1FFB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mples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E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made up of only one kind of a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Gold Bar.jpg"/>
          <p:cNvPicPr/>
          <p:nvPr/>
        </p:nvPicPr>
        <p:blipFill>
          <a:blip r:embed="rId1"/>
          <a:stretch/>
        </p:blipFill>
        <p:spPr>
          <a:xfrm>
            <a:off x="2577960" y="3065400"/>
            <a:ext cx="3988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lassification system do most libraries use to organize their book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wey Decim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Dewey Decimal System.jpg"/>
          <p:cNvPicPr/>
          <p:nvPr/>
        </p:nvPicPr>
        <p:blipFill>
          <a:blip r:embed="rId1"/>
          <a:stretch/>
        </p:blipFill>
        <p:spPr>
          <a:xfrm>
            <a:off x="1849320" y="3265560"/>
            <a:ext cx="5434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iodic Table of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es the elements by their properti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ws are called Peri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in a row have the same number of energy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s are called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in a group have similar properties related to thei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also form similar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Au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number is the atomic numb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at number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tells you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Atom of Hydrogen, for example has 1 a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all hydrogen atoms have 1 proton in its nucleu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all Hydrogen atoms have the same amount of neutrons in their nucleu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, some Hydrogen atoms may have more neutrons than other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otop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oms of the same element that have different numbers of neutr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4:57:58Z</dcterms:created>
  <dc:creator>Cleophis Carson</dc:creator>
  <dc:description/>
  <dc:language>en-US</dc:language>
  <cp:lastModifiedBy>Cleophis Carson</cp:lastModifiedBy>
  <dcterms:modified xsi:type="dcterms:W3CDTF">2011-09-09T16:33:30Z</dcterms:modified>
  <cp:revision>1</cp:revision>
  <dc:subject/>
  <dc:title>The Simplest Matter</dc:title>
</cp:coreProperties>
</file>